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82FA-74A7-4546-9325-048BD35C1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00FC-9A47-4796-AB6F-64CC63F1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F54D-B298-4C38-AB25-E343954F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D457-A53B-4574-BDEC-2CC8A6846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721C-48FF-4A7F-AA0E-CD01BB5C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DB0D-2D12-4F91-B939-00A7FB43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58BA-4B85-47BA-A405-02E00BE0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8E57-7CE5-4383-A5CB-9023F311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FD28-2EAF-497F-BFEE-45AD3369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686E-84F0-47D5-AB1E-FB3A562F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F8BB-FBCB-4898-9DE8-3408E62A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B00E-A2EF-4911-B922-340E9BFA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A21E-66DA-47F5-BC31-DEB91D6615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9"/>
          <p:cNvGrpSpPr/>
          <p:nvPr/>
        </p:nvGrpSpPr>
        <p:grpSpPr>
          <a:xfrm>
            <a:off x="0" y="0"/>
            <a:ext cx="6858000" cy="9906120"/>
            <a:chOff x="0" y="0"/>
            <a:chExt cx="6858000" cy="9906120"/>
          </a:xfrm>
        </p:grpSpPr>
        <p:sp>
          <p:nvSpPr>
            <p:cNvPr id="42" name="Rectangle 4"/>
            <p:cNvSpPr/>
            <p:nvPr/>
          </p:nvSpPr>
          <p:spPr>
            <a:xfrm>
              <a:off x="0" y="0"/>
              <a:ext cx="6858000" cy="866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Dossier d’étude d’opportunité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5"/>
            <p:cNvSpPr/>
            <p:nvPr/>
          </p:nvSpPr>
          <p:spPr>
            <a:xfrm>
              <a:off x="0" y="866880"/>
              <a:ext cx="4876920" cy="119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Structure :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Rédacteur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Projet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6"/>
            <p:cNvSpPr/>
            <p:nvPr/>
          </p:nvSpPr>
          <p:spPr>
            <a:xfrm>
              <a:off x="4876920" y="866880"/>
              <a:ext cx="1981080" cy="119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Date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8"/>
            <p:cNvSpPr/>
            <p:nvPr/>
          </p:nvSpPr>
          <p:spPr>
            <a:xfrm>
              <a:off x="0" y="2057400"/>
              <a:ext cx="6858000" cy="89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Objet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0" y="2952720"/>
              <a:ext cx="68580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Objectifs et enjeux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0" y="3822840"/>
              <a:ext cx="6858000" cy="86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Description de l’objet du changement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1"/>
            <p:cNvSpPr/>
            <p:nvPr/>
          </p:nvSpPr>
          <p:spPr>
            <a:xfrm>
              <a:off x="0" y="5559480"/>
              <a:ext cx="6858000" cy="86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Impacts organisationnels et humains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12"/>
            <p:cNvSpPr/>
            <p:nvPr/>
          </p:nvSpPr>
          <p:spPr>
            <a:xfrm>
              <a:off x="0" y="7299360"/>
              <a:ext cx="6858000" cy="866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Volumes prévus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13"/>
            <p:cNvSpPr/>
            <p:nvPr/>
          </p:nvSpPr>
          <p:spPr>
            <a:xfrm>
              <a:off x="0" y="6429240"/>
              <a:ext cx="68580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Exigence de qualité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14"/>
            <p:cNvSpPr/>
            <p:nvPr/>
          </p:nvSpPr>
          <p:spPr>
            <a:xfrm>
              <a:off x="0" y="4692600"/>
              <a:ext cx="6858000" cy="866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Acteurs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15"/>
            <p:cNvSpPr/>
            <p:nvPr/>
          </p:nvSpPr>
          <p:spPr>
            <a:xfrm>
              <a:off x="0" y="8166240"/>
              <a:ext cx="6858000" cy="86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Coûts prévus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16"/>
            <p:cNvSpPr/>
            <p:nvPr/>
          </p:nvSpPr>
          <p:spPr>
            <a:xfrm>
              <a:off x="0" y="9036000"/>
              <a:ext cx="68580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Délais de mise en œuvre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37:38Z</dcterms:modified>
  <cp:revision>102</cp:revision>
  <dc:subject/>
  <dc:title>Présentation PowerPoint</dc:title>
</cp:coreProperties>
</file>